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7.jpeg" ContentType="image/jpeg"/>
  <Override PartName="/ppt/media/image27.png" ContentType="image/png"/>
  <Override PartName="/ppt/media/image26.png" ContentType="image/png"/>
  <Override PartName="/ppt/media/image23.png" ContentType="image/png"/>
  <Override PartName="/ppt/media/image18.png" ContentType="image/png"/>
  <Override PartName="/ppt/media/image20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11.png" ContentType="image/png"/>
  <Override PartName="/ppt/media/image6.wmf" ContentType="image/x-wmf"/>
  <Override PartName="/ppt/media/image10.png" ContentType="image/png"/>
  <Override PartName="/ppt/media/image30.png" ContentType="image/png"/>
  <Override PartName="/ppt/media/image34.png" ContentType="image/png"/>
  <Override PartName="/ppt/media/image22.jpeg" ContentType="image/jpeg"/>
  <Override PartName="/ppt/media/image9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36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3.wmf" ContentType="image/x-wmf"/>
  <Override PartName="/ppt/media/image3.wmf" ContentType="image/x-wmf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46A9-D49C-4635-BE53-D05017F83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5DC7-921A-4D15-8DDA-B0C696123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FAE2-6429-443C-A8C9-493D4638F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AAB8-7515-42E0-9BDB-850D13248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1A6D-8D63-4C82-BEB6-23DB42728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4149-A5B5-4A17-945E-B36154D02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87E5-FABF-4164-98CE-4B0C4B1B1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48AF-BB9B-46C3-BB65-617E4F507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80F1-8387-4B54-960E-EEA8E48BD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40F0-E692-4AE2-9E14-65AEE8E20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2472-4779-405C-8264-6034278C0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1D88-8103-424C-B3E9-35CD266CD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E411-D94D-4526-9B21-13A6732B8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EDFF-832F-48B1-91F4-1CA424FFE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6605-6171-471D-83D8-269A59C9A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0BF6-CF72-4890-A74F-DADDD523A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EC1F-AC30-4945-927C-83E3B17FC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1E59-DF9B-42E2-9DDD-8554B6EDA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57C8-0656-4875-AC54-DADE1EA9A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546F-3C68-495C-92DF-E099863B8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D67F-80DF-4EEC-A020-E3B3828DB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9BD3-E532-4AF7-93A3-6D3CACD04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28B2-0A6C-4717-A271-3EB92A81C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3584-77C7-4ACF-BF54-5FB43D3BF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43AA-7501-4DDC-A6E1-CF85A41EB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5D17-C375-43EA-A16D-7EFF80BB6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8C14-DAFF-4EDC-997B-00BE38806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A91A-34E0-4EBE-BC31-07830497F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FB59-8EEF-4C33-8630-327745C7D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FB9A-5BF2-4709-956B-A876C3858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E183-868B-4637-8B29-3BF7AD3A3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4DD3-8343-43B2-8F1E-FBCA85AF0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E75B-1458-48B6-86D2-A59B2BEDE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C12-D937-40AA-A7DC-9AADDD39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561C-4F79-4977-AE88-373F1958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451-B2B4-4AAF-A561-C86E2466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55F-2DBE-4BA1-9060-5B1E2578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227-9465-4EDD-82DE-8A8F23DA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A41E-B5B3-4928-B30B-0AFB2A78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D0D-8924-470C-A94C-A0E846A5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E07-616F-4DC4-9580-708FC3CE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C3AC-A530-4478-83E9-DC6C0327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B98-0741-4D0C-98A0-690AE63A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6BD-DA76-4BC2-B214-7B012C61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C3E-42F0-4ED9-89AD-C7A11FE5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1F4B-5C91-4C9D-AFCE-FF3D1F213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et.org/artstoolkit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ket.org/education/encyclomedia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et.unitedstream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voki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5.xm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lmoore@ket.org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lideshare.net/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www.slideboom.com/" TargetMode="External"/><Relationship Id="rId4" Type="http://schemas.openxmlformats.org/officeDocument/2006/relationships/image" Target="../media/image26.png"/><Relationship Id="rId5" Type="http://schemas.openxmlformats.org/officeDocument/2006/relationships/hyperlink" Target="http://www.slideshare.net/secret/3LP0pY2RClHLh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Inspiration%20owl%20web/Bats__The_Only_True_Flying_Mammals.asf" TargetMode="External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lmooreketresources.wikispace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ket.org/lincoln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l.ket.org/scalecity/dino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http://www.ket.org/education/professional/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ket.cre8tivegroup.com/rr/" TargetMode="External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et.org/trips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www.ket.org/trip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l.ket.org/physicslabs/labs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ncyclomedia-1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14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MPj03167790000[1]"/>
          <p:cNvPicPr/>
          <p:nvPr/>
        </p:nvPicPr>
        <p:blipFill>
          <a:blip r:embed="rId2"/>
          <a:stretch/>
        </p:blipFill>
        <p:spPr>
          <a:xfrm>
            <a:off x="228600" y="1905120"/>
            <a:ext cx="8686800" cy="4724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2"/>
          <p:cNvSpPr/>
          <p:nvPr/>
        </p:nvSpPr>
        <p:spPr>
          <a:xfrm>
            <a:off x="304920" y="5429160"/>
            <a:ext cx="85341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T Online Resources and Web 2.0 Tools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-228600" y="-1676520"/>
            <a:ext cx="8610480" cy="6477120"/>
          </a:xfrm>
          <a:custGeom>
            <a:avLst/>
            <a:gdLst>
              <a:gd name="textAreaLeft" fmla="*/ 419760 w 8610480"/>
              <a:gd name="textAreaRight" fmla="*/ 8190720 w 8610480"/>
              <a:gd name="textAreaTop" fmla="*/ 419760 h 6477120"/>
              <a:gd name="textAreaBottom" fmla="*/ 6057360 h 6477120"/>
            </a:gdLst>
            <a:ahLst/>
            <a:rect l="textAreaLeft" t="textAreaTop" r="textAreaRight" b="textAreaBottom"/>
            <a:pathLst>
              <a:path w="28714" h="21600">
                <a:moveTo>
                  <a:pt x="0" y="0"/>
                </a:moveTo>
                <a:lnTo>
                  <a:pt x="28714" y="0"/>
                </a:lnTo>
                <a:lnTo>
                  <a:pt x="28714" y="21600"/>
                </a:lnTo>
                <a:lnTo>
                  <a:pt x="0" y="21600"/>
                </a:lnTo>
                <a:close/>
              </a:path>
              <a:path fill="lightenLess" w="28714" h="21600">
                <a:moveTo>
                  <a:pt x="0" y="0"/>
                </a:moveTo>
                <a:lnTo>
                  <a:pt x="28714" y="0"/>
                </a:lnTo>
                <a:lnTo>
                  <a:pt x="27314" y="1400"/>
                </a:lnTo>
                <a:lnTo>
                  <a:pt x="1400" y="1400"/>
                </a:lnTo>
                <a:close/>
              </a:path>
              <a:path fill="darken" w="28714" h="21600">
                <a:moveTo>
                  <a:pt x="28714" y="0"/>
                </a:moveTo>
                <a:lnTo>
                  <a:pt x="28714" y="21600"/>
                </a:lnTo>
                <a:lnTo>
                  <a:pt x="27314" y="20200"/>
                </a:lnTo>
                <a:lnTo>
                  <a:pt x="27314" y="1400"/>
                </a:lnTo>
                <a:close/>
              </a:path>
              <a:path fill="darkenLess" w="28714" h="21600">
                <a:moveTo>
                  <a:pt x="28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4" y="20200"/>
                </a:lnTo>
                <a:close/>
              </a:path>
              <a:path fill="lighten" w="28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D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Tour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 world destination to find out  the history, geography and culture of more than 36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nce Sampler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 country to see dance descriptions, video samples, role of dance in culture info., activities,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ic Sampler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ence a world of sounds with music descriptions, video/audio ex., role of music in culture, activities, li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eachers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ceSense teacher’s guide, Dance ATK lesson plan PDFs, audio files, and more teach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remember all the ATKS are supported by the companion website at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>
            <a:hlinkClick r:id="rId1"/>
          </p:cNvPr>
          <p:cNvSpPr/>
          <p:nvPr/>
        </p:nvSpPr>
        <p:spPr>
          <a:xfrm>
            <a:off x="2133720" y="6319800"/>
            <a:ext cx="5029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ket.org/artstoolkit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0" y="19807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nce Toolkit  World of Music and Dance 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Encyclomedia-1"/>
          <p:cNvPicPr/>
          <p:nvPr/>
        </p:nvPicPr>
        <p:blipFill>
          <a:blip r:embed="rId1"/>
          <a:stretch/>
        </p:blipFill>
        <p:spPr>
          <a:xfrm>
            <a:off x="380880" y="228600"/>
            <a:ext cx="7696440" cy="15019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228600" y="2743200"/>
            <a:ext cx="883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5000 videos- 50,000 video segments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155 of KET’s original program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20,000 digital imag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400 songs, 3000 sound effec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40 historic speech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iscovery Atlas Interactive Map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obust  Professional Development area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0492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eatures of the servic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28600" y="2590920"/>
            <a:ext cx="8381880" cy="75960"/>
          </a:xfrm>
          <a:prstGeom prst="rect">
            <a:avLst/>
          </a:prstGeom>
          <a:solidFill>
            <a:srgbClr val="ffdd1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New Features Introduced in 2008-09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anded content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er resolutio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granular search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-level standards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hanced Interactive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oring DE Streaming PD ar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Encyclomedia-1"/>
          <p:cNvPicPr/>
          <p:nvPr/>
        </p:nvPicPr>
        <p:blipFill>
          <a:blip r:embed="rId1"/>
          <a:stretch/>
        </p:blipFill>
        <p:spPr>
          <a:xfrm>
            <a:off x="762120" y="76320"/>
            <a:ext cx="7467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04920" y="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ts Explore this Exciting Service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0" name="AutoShape 6">
            <a:hlinkClick r:id="rId2"/>
          </p:cNvPr>
          <p:cNvSpPr/>
          <p:nvPr/>
        </p:nvSpPr>
        <p:spPr>
          <a:xfrm>
            <a:off x="6095880" y="3352680"/>
            <a:ext cx="2057400" cy="99072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4848" h="21600">
                <a:moveTo>
                  <a:pt x="0" y="0"/>
                </a:moveTo>
                <a:lnTo>
                  <a:pt x="44848" y="0"/>
                </a:lnTo>
                <a:lnTo>
                  <a:pt x="44848" y="21600"/>
                </a:lnTo>
                <a:lnTo>
                  <a:pt x="0" y="21600"/>
                </a:lnTo>
                <a:close/>
              </a:path>
              <a:path fill="lightenLess" w="44848" h="21600">
                <a:moveTo>
                  <a:pt x="0" y="0"/>
                </a:moveTo>
                <a:lnTo>
                  <a:pt x="44848" y="0"/>
                </a:lnTo>
                <a:lnTo>
                  <a:pt x="43448" y="1400"/>
                </a:lnTo>
                <a:lnTo>
                  <a:pt x="1400" y="1400"/>
                </a:lnTo>
                <a:close/>
              </a:path>
              <a:path fill="darken" w="44848" h="21600">
                <a:moveTo>
                  <a:pt x="44848" y="0"/>
                </a:moveTo>
                <a:lnTo>
                  <a:pt x="44848" y="21600"/>
                </a:lnTo>
                <a:lnTo>
                  <a:pt x="43448" y="20200"/>
                </a:lnTo>
                <a:lnTo>
                  <a:pt x="43448" y="1400"/>
                </a:lnTo>
                <a:close/>
              </a:path>
              <a:path fill="darkenLess" w="44848" h="21600">
                <a:moveTo>
                  <a:pt x="44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8" y="20200"/>
                </a:lnTo>
                <a:close/>
              </a:path>
              <a:path fill="lighten" w="44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6019920" y="2743200"/>
            <a:ext cx="457200" cy="7621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743200" y="2449440"/>
            <a:ext cx="327672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Here for link to page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3" name="Action Button: Forward or Next 6"/>
          <p:cNvSpPr/>
          <p:nvPr/>
        </p:nvSpPr>
        <p:spPr>
          <a:xfrm>
            <a:off x="822960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914400" y="1523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as a brand new web address!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ts check it out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15" name="Picture 5" descr="Encyclomedia-1"/>
          <p:cNvPicPr/>
          <p:nvPr/>
        </p:nvPicPr>
        <p:blipFill>
          <a:blip r:embed="rId1"/>
          <a:stretch/>
        </p:blipFill>
        <p:spPr>
          <a:xfrm>
            <a:off x="685800" y="152280"/>
            <a:ext cx="7467480" cy="13716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9"/>
          <p:cNvSpPr/>
          <p:nvPr/>
        </p:nvSpPr>
        <p:spPr>
          <a:xfrm>
            <a:off x="914400" y="3276720"/>
            <a:ext cx="74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http://ket.unitedstreaming.com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7" name="Action Button: Custom 10">
            <a:hlinkClick r:id="rId2"/>
          </p:cNvPr>
          <p:cNvSpPr/>
          <p:nvPr/>
        </p:nvSpPr>
        <p:spPr>
          <a:xfrm>
            <a:off x="762120" y="3200400"/>
            <a:ext cx="7619760" cy="1219320"/>
          </a:xfrm>
          <a:custGeom>
            <a:avLst/>
            <a:gdLst>
              <a:gd name="textAreaLeft" fmla="*/ 78840 w 7619760"/>
              <a:gd name="textAreaRight" fmla="*/ 7540920 w 76197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34949" h="21600">
                <a:moveTo>
                  <a:pt x="0" y="0"/>
                </a:moveTo>
                <a:lnTo>
                  <a:pt x="134949" y="0"/>
                </a:lnTo>
                <a:lnTo>
                  <a:pt x="134949" y="21600"/>
                </a:lnTo>
                <a:lnTo>
                  <a:pt x="0" y="21600"/>
                </a:lnTo>
                <a:close/>
              </a:path>
              <a:path fill="lightenLess" w="134949" h="21600">
                <a:moveTo>
                  <a:pt x="0" y="0"/>
                </a:moveTo>
                <a:lnTo>
                  <a:pt x="134949" y="0"/>
                </a:lnTo>
                <a:lnTo>
                  <a:pt x="133549" y="1400"/>
                </a:lnTo>
                <a:lnTo>
                  <a:pt x="1400" y="1400"/>
                </a:lnTo>
                <a:close/>
              </a:path>
              <a:path fill="darken" w="134949" h="21600">
                <a:moveTo>
                  <a:pt x="134949" y="0"/>
                </a:moveTo>
                <a:lnTo>
                  <a:pt x="134949" y="21600"/>
                </a:lnTo>
                <a:lnTo>
                  <a:pt x="133549" y="20200"/>
                </a:lnTo>
                <a:lnTo>
                  <a:pt x="133549" y="1400"/>
                </a:lnTo>
                <a:close/>
              </a:path>
              <a:path fill="darkenLess" w="134949" h="21600">
                <a:moveTo>
                  <a:pt x="134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49" y="20200"/>
                </a:lnTo>
                <a:close/>
              </a:path>
              <a:path fill="lighten" w="134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ine KET Instructional resources with a variety of software and Web 2.0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0"/>
          <p:cNvSpPr/>
          <p:nvPr/>
        </p:nvSpPr>
        <p:spPr>
          <a:xfrm>
            <a:off x="457200" y="16765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0" name="AutoShape 20"/>
          <p:cNvSpPr/>
          <p:nvPr/>
        </p:nvSpPr>
        <p:spPr>
          <a:xfrm>
            <a:off x="3124080" y="16765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1" name="Rectangle 23">
            <a:hlinkClick r:id="rId1"/>
          </p:cNvPr>
          <p:cNvSpPr/>
          <p:nvPr/>
        </p:nvSpPr>
        <p:spPr>
          <a:xfrm>
            <a:off x="2057400" y="2819520"/>
            <a:ext cx="23623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5867280" y="3886200"/>
            <a:ext cx="23623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d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3" name="AutoShape 20"/>
          <p:cNvSpPr/>
          <p:nvPr/>
        </p:nvSpPr>
        <p:spPr>
          <a:xfrm>
            <a:off x="4648320" y="2819520"/>
            <a:ext cx="2361960" cy="685800"/>
          </a:xfrm>
          <a:custGeom>
            <a:avLst/>
            <a:gdLst>
              <a:gd name="textAreaLeft" fmla="*/ 44280 w 2361960"/>
              <a:gd name="textAreaRight" fmla="*/ 2317680 w 2361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65" h="21600">
                <a:moveTo>
                  <a:pt x="0" y="0"/>
                </a:moveTo>
                <a:lnTo>
                  <a:pt x="74365" y="0"/>
                </a:lnTo>
                <a:lnTo>
                  <a:pt x="74365" y="21600"/>
                </a:lnTo>
                <a:lnTo>
                  <a:pt x="0" y="21600"/>
                </a:lnTo>
                <a:close/>
              </a:path>
              <a:path fill="lightenLess" w="74365" h="21600">
                <a:moveTo>
                  <a:pt x="0" y="0"/>
                </a:moveTo>
                <a:lnTo>
                  <a:pt x="74365" y="0"/>
                </a:lnTo>
                <a:lnTo>
                  <a:pt x="72965" y="1400"/>
                </a:lnTo>
                <a:lnTo>
                  <a:pt x="1400" y="1400"/>
                </a:lnTo>
                <a:close/>
              </a:path>
              <a:path fill="darken" w="74365" h="21600">
                <a:moveTo>
                  <a:pt x="74365" y="0"/>
                </a:moveTo>
                <a:lnTo>
                  <a:pt x="74365" y="21600"/>
                </a:lnTo>
                <a:lnTo>
                  <a:pt x="72965" y="20200"/>
                </a:lnTo>
                <a:lnTo>
                  <a:pt x="72965" y="1400"/>
                </a:lnTo>
                <a:close/>
              </a:path>
              <a:path fill="darkenLess" w="74365" h="21600">
                <a:moveTo>
                  <a:pt x="74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65" y="20200"/>
                </a:lnTo>
                <a:close/>
              </a:path>
              <a:path fill="lighten" w="74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be12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4" name="AutoShape 20"/>
          <p:cNvSpPr/>
          <p:nvPr/>
        </p:nvSpPr>
        <p:spPr>
          <a:xfrm>
            <a:off x="5791320" y="1676520"/>
            <a:ext cx="2361960" cy="685800"/>
          </a:xfrm>
          <a:custGeom>
            <a:avLst/>
            <a:gdLst>
              <a:gd name="textAreaLeft" fmla="*/ 44280 w 2361960"/>
              <a:gd name="textAreaRight" fmla="*/ 2317680 w 2361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65" h="21600">
                <a:moveTo>
                  <a:pt x="0" y="0"/>
                </a:moveTo>
                <a:lnTo>
                  <a:pt x="74365" y="0"/>
                </a:lnTo>
                <a:lnTo>
                  <a:pt x="74365" y="21600"/>
                </a:lnTo>
                <a:lnTo>
                  <a:pt x="0" y="21600"/>
                </a:lnTo>
                <a:close/>
              </a:path>
              <a:path fill="lightenLess" w="74365" h="21600">
                <a:moveTo>
                  <a:pt x="0" y="0"/>
                </a:moveTo>
                <a:lnTo>
                  <a:pt x="74365" y="0"/>
                </a:lnTo>
                <a:lnTo>
                  <a:pt x="72965" y="1400"/>
                </a:lnTo>
                <a:lnTo>
                  <a:pt x="1400" y="1400"/>
                </a:lnTo>
                <a:close/>
              </a:path>
              <a:path fill="darken" w="74365" h="21600">
                <a:moveTo>
                  <a:pt x="74365" y="0"/>
                </a:moveTo>
                <a:lnTo>
                  <a:pt x="74365" y="21600"/>
                </a:lnTo>
                <a:lnTo>
                  <a:pt x="72965" y="20200"/>
                </a:lnTo>
                <a:lnTo>
                  <a:pt x="72965" y="1400"/>
                </a:lnTo>
                <a:close/>
              </a:path>
              <a:path fill="darkenLess" w="74365" h="21600">
                <a:moveTo>
                  <a:pt x="74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65" y="20200"/>
                </a:lnTo>
                <a:close/>
              </a:path>
              <a:path fill="lighten" w="74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5" name="TextBox 37"/>
          <p:cNvSpPr/>
          <p:nvPr/>
        </p:nvSpPr>
        <p:spPr>
          <a:xfrm>
            <a:off x="533520" y="17524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6" name="TextBox 39"/>
          <p:cNvSpPr/>
          <p:nvPr/>
        </p:nvSpPr>
        <p:spPr>
          <a:xfrm>
            <a:off x="3200400" y="1752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7" name="TextBox 40"/>
          <p:cNvSpPr/>
          <p:nvPr/>
        </p:nvSpPr>
        <p:spPr>
          <a:xfrm>
            <a:off x="2133720" y="290664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toStory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8" name="TextBox 43"/>
          <p:cNvSpPr/>
          <p:nvPr/>
        </p:nvSpPr>
        <p:spPr>
          <a:xfrm>
            <a:off x="5867280" y="3973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ieMak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9" name="TextBox 44"/>
          <p:cNvSpPr/>
          <p:nvPr/>
        </p:nvSpPr>
        <p:spPr>
          <a:xfrm>
            <a:off x="4648320" y="2895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ment Build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0" name="TextBox 45"/>
          <p:cNvSpPr/>
          <p:nvPr/>
        </p:nvSpPr>
        <p:spPr>
          <a:xfrm>
            <a:off x="3200400" y="404964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ki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1" name="Rectangle 46"/>
          <p:cNvSpPr/>
          <p:nvPr/>
        </p:nvSpPr>
        <p:spPr>
          <a:xfrm>
            <a:off x="457200" y="3886200"/>
            <a:ext cx="23623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d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2" name="TextBox 47"/>
          <p:cNvSpPr/>
          <p:nvPr/>
        </p:nvSpPr>
        <p:spPr>
          <a:xfrm>
            <a:off x="45720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Thread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3" name="AutoShape 20"/>
          <p:cNvSpPr/>
          <p:nvPr/>
        </p:nvSpPr>
        <p:spPr>
          <a:xfrm>
            <a:off x="3124080" y="388620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4" name="TextBox 50"/>
          <p:cNvSpPr/>
          <p:nvPr/>
        </p:nvSpPr>
        <p:spPr>
          <a:xfrm>
            <a:off x="3809880" y="3962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ki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5" name="TextBox 51"/>
          <p:cNvSpPr/>
          <p:nvPr/>
        </p:nvSpPr>
        <p:spPr>
          <a:xfrm>
            <a:off x="5791320" y="17524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Sharing Tool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corporating KEM Resources into Microsof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048120" y="52578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Baskerville Old Face"/>
              </a:rPr>
              <a:t>Penguins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38" name="Picture 5" descr="C:\Documents and Settings\lmoore\Local Settings\Temporary Internet Files\Content.IE5\KJNM90WP\MPj04224830000[1].jpg"/>
          <p:cNvPicPr/>
          <p:nvPr/>
        </p:nvPicPr>
        <p:blipFill>
          <a:blip r:embed="rId1"/>
          <a:stretch/>
        </p:blipFill>
        <p:spPr>
          <a:xfrm>
            <a:off x="2057400" y="1371600"/>
            <a:ext cx="5143680" cy="34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6"/>
          <p:cNvSpPr/>
          <p:nvPr/>
        </p:nvSpPr>
        <p:spPr>
          <a:xfrm>
            <a:off x="0" y="314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xamples of Embedding and HyperLinkin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5867280" y="53452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wering Plant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609480" y="5373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magnetism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42" name="Picture 6" descr="passion flower.jpg"/>
          <p:cNvPicPr/>
          <p:nvPr/>
        </p:nvPicPr>
        <p:blipFill>
          <a:blip r:embed="rId1"/>
          <a:stretch/>
        </p:blipFill>
        <p:spPr>
          <a:xfrm>
            <a:off x="5257800" y="1600200"/>
            <a:ext cx="3657600" cy="3581280"/>
          </a:xfrm>
          <a:prstGeom prst="rect">
            <a:avLst/>
          </a:prstGeom>
          <a:ln w="0">
            <a:noFill/>
          </a:ln>
        </p:spPr>
      </p:pic>
      <p:pic>
        <p:nvPicPr>
          <p:cNvPr id="143" name="Electromagnetism.wmv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49183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6"/>
          <p:cNvSpPr/>
          <p:nvPr/>
        </p:nvSpPr>
        <p:spPr>
          <a:xfrm>
            <a:off x="22860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Instructions for Hyperlinking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04920" y="1066680"/>
            <a:ext cx="784836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load a video segment to a designated folder that also contains your Powerpoint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must have an object to serve as your “trigger”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button to click to link to the desired clip. Thi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can be a text box, image, clip art, 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button. Right click on this object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“Insert” drop-down menu, select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“Insert Hyperlink” window, locate the clip or file to which you want to link. You may have to browse some to find it. Double click on the file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“OK” when finish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46" name="Picture 15" descr="block_exterior.jpg"/>
          <p:cNvPicPr/>
          <p:nvPr/>
        </p:nvPicPr>
        <p:blipFill>
          <a:blip r:embed="rId1"/>
          <a:stretch/>
        </p:blipFill>
        <p:spPr>
          <a:xfrm>
            <a:off x="7010280" y="1752480"/>
            <a:ext cx="1927440" cy="137160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5">
            <a:hlinkClick r:id="rId2" action="ppaction://hlinksldjump"/>
          </p:cNvPr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5562720" y="3048120"/>
            <a:ext cx="83808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228600" y="1522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structions for Embedding In 2007 PowerPoint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04920" y="838080"/>
            <a:ext cx="8610480" cy="54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load a video segment to a folder that also contains your PowerPoint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the slide where you want to embed the cli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toolbar go to “Insert” and select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Double click on the clip and it will place a “movie screen” on your slide and ask “How do you want this Movie to start?” with options “Automatically” or “When Clicked”. Choose the desired option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Using the “handles” on the embedded movie screen you can move and resize your clip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1" name="AutoShape 5">
            <a:hlinkClick r:id="rId1" action="ppaction://hlinksldjump"/>
          </p:cNvPr>
          <p:cNvSpPr/>
          <p:nvPr/>
        </p:nvSpPr>
        <p:spPr>
          <a:xfrm>
            <a:off x="8381880" y="56386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6477120" y="2181240"/>
            <a:ext cx="106668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Your Presenter today i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4920" y="1066680"/>
            <a:ext cx="7391160" cy="78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rry Moore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T Education Consultant,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th Central Region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ional Office # (502) 875-9002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Mail: (800) 432-0951, ext. 7264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moore@ket.or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4" name="Picture 4" descr="MCPE01923_0000[1]"/>
          <p:cNvPicPr/>
          <p:nvPr/>
        </p:nvPicPr>
        <p:blipFill>
          <a:blip r:embed="rId2"/>
          <a:stretch/>
        </p:blipFill>
        <p:spPr>
          <a:xfrm>
            <a:off x="6629400" y="4952880"/>
            <a:ext cx="22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"/>
          <p:cNvSpPr/>
          <p:nvPr/>
        </p:nvSpPr>
        <p:spPr>
          <a:xfrm>
            <a:off x="228600" y="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2.0 Slide Sharing Sites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76320" y="2666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Secret Codes!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2362320" y="51768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lideBoom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56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80" y="3933720"/>
            <a:ext cx="9124920" cy="11718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838080" y="32004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lideshare.net/secret/3LP0pY2RClHLhl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9" name="Action Button: Custom 8">
            <a:hlinkClick r:id="rId5"/>
          </p:cNvPr>
          <p:cNvSpPr/>
          <p:nvPr/>
        </p:nvSpPr>
        <p:spPr>
          <a:xfrm>
            <a:off x="762120" y="3124080"/>
            <a:ext cx="7086600" cy="533520"/>
          </a:xfrm>
          <a:custGeom>
            <a:avLst/>
            <a:gdLst>
              <a:gd name="textAreaLeft" fmla="*/ 34560 w 7086600"/>
              <a:gd name="textAreaRight" fmla="*/ 7052040 w 7086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86728" h="21600">
                <a:moveTo>
                  <a:pt x="0" y="0"/>
                </a:moveTo>
                <a:lnTo>
                  <a:pt x="286728" y="0"/>
                </a:lnTo>
                <a:lnTo>
                  <a:pt x="286728" y="21600"/>
                </a:lnTo>
                <a:lnTo>
                  <a:pt x="0" y="21600"/>
                </a:lnTo>
                <a:close/>
              </a:path>
              <a:path fill="lightenLess" w="286728" h="21600">
                <a:moveTo>
                  <a:pt x="0" y="0"/>
                </a:moveTo>
                <a:lnTo>
                  <a:pt x="286728" y="0"/>
                </a:lnTo>
                <a:lnTo>
                  <a:pt x="285328" y="1400"/>
                </a:lnTo>
                <a:lnTo>
                  <a:pt x="1400" y="1400"/>
                </a:lnTo>
                <a:close/>
              </a:path>
              <a:path fill="darken" w="286728" h="21600">
                <a:moveTo>
                  <a:pt x="286728" y="0"/>
                </a:moveTo>
                <a:lnTo>
                  <a:pt x="286728" y="21600"/>
                </a:lnTo>
                <a:lnTo>
                  <a:pt x="285328" y="20200"/>
                </a:lnTo>
                <a:lnTo>
                  <a:pt x="285328" y="1400"/>
                </a:lnTo>
                <a:close/>
              </a:path>
              <a:path fill="darkenLess" w="286728" h="21600">
                <a:moveTo>
                  <a:pt x="286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328" y="20200"/>
                </a:lnTo>
                <a:close/>
              </a:path>
              <a:path fill="lighten" w="286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533520" y="838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 Share -  www.slideshare.com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ing EncycloMedia With PhotoS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9" name="AutoShape 11">
            <a:hlinkClick r:id="rId1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0" name="AutoShape 12">
            <a:hlinkClick r:id="rId2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1" name="AutoShape 13">
            <a:hlinkClick r:id="rId3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7" name="AutoShape 21"/>
          <p:cNvSpPr/>
          <p:nvPr/>
        </p:nvSpPr>
        <p:spPr>
          <a:xfrm>
            <a:off x="2209680" y="2514600"/>
            <a:ext cx="6400800" cy="838080"/>
          </a:xfrm>
          <a:custGeom>
            <a:avLst/>
            <a:gdLst>
              <a:gd name="textAreaLeft" fmla="*/ 54000 w 6400800"/>
              <a:gd name="textAreaRight" fmla="*/ 6346800 w 6400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4908" h="21600">
                <a:moveTo>
                  <a:pt x="0" y="0"/>
                </a:moveTo>
                <a:lnTo>
                  <a:pt x="164908" y="0"/>
                </a:lnTo>
                <a:lnTo>
                  <a:pt x="164908" y="21600"/>
                </a:lnTo>
                <a:lnTo>
                  <a:pt x="0" y="21600"/>
                </a:lnTo>
                <a:close/>
              </a:path>
              <a:path fill="lightenLess" w="164908" h="21600">
                <a:moveTo>
                  <a:pt x="0" y="0"/>
                </a:moveTo>
                <a:lnTo>
                  <a:pt x="164908" y="0"/>
                </a:lnTo>
                <a:lnTo>
                  <a:pt x="163508" y="1400"/>
                </a:lnTo>
                <a:lnTo>
                  <a:pt x="1400" y="1400"/>
                </a:lnTo>
                <a:close/>
              </a:path>
              <a:path fill="darken" w="164908" h="21600">
                <a:moveTo>
                  <a:pt x="164908" y="0"/>
                </a:moveTo>
                <a:lnTo>
                  <a:pt x="164908" y="21600"/>
                </a:lnTo>
                <a:lnTo>
                  <a:pt x="163508" y="20200"/>
                </a:lnTo>
                <a:lnTo>
                  <a:pt x="163508" y="1400"/>
                </a:lnTo>
                <a:close/>
              </a:path>
              <a:path fill="darkenLess" w="164908" h="21600">
                <a:moveTo>
                  <a:pt x="1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508" y="20200"/>
                </a:lnTo>
                <a:close/>
              </a:path>
              <a:path fill="lighten" w="1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8" name="TextBox 20"/>
          <p:cNvSpPr/>
          <p:nvPr/>
        </p:nvSpPr>
        <p:spPr>
          <a:xfrm>
            <a:off x="3048120" y="6172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Rock Cycl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9" name="LM sedimentary rock.wmv" descr=""/>
          <p:cNvPicPr/>
          <p:nvPr/>
        </p:nvPicPr>
        <p:blipFill>
          <a:blip r:embed="rId4"/>
          <a:stretch/>
        </p:blipFill>
        <p:spPr>
          <a:xfrm>
            <a:off x="914400" y="68580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609480" y="5140440"/>
            <a:ext cx="8001000" cy="1641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0" y="905040"/>
            <a:ext cx="9142560" cy="36669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8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ki- It’s not just for FaceBook and MySpace</a:t>
            </a:r>
            <a:r>
              <a:rPr b="0" lang="en-US" sz="3600" spc="-1" strike="noStrike">
                <a:solidFill>
                  <a:srgbClr val="000000"/>
                </a:solidFill>
                <a:latin typeface="Baskerville Old Face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2819520" y="4572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voki.com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1522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n Original Production Using EncycloMedia Content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838080" y="59072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re a short movie created using “MovieMaker” which incorporates Encyclomedia Clips, images, and sound effects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6" name="Will_Lemurs.wmv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304920" y="85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EncycloMedia Content With VoiceThread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9" name="Action Button: Custom 3"/>
          <p:cNvSpPr/>
          <p:nvPr/>
        </p:nvSpPr>
        <p:spPr>
          <a:xfrm>
            <a:off x="304920" y="0"/>
            <a:ext cx="8381880" cy="685800"/>
          </a:xfrm>
          <a:custGeom>
            <a:avLst/>
            <a:gdLst>
              <a:gd name="textAreaLeft" fmla="*/ 44280 w 8381880"/>
              <a:gd name="textAreaRight" fmla="*/ 8337600 w 8381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869" h="21600">
                <a:moveTo>
                  <a:pt x="0" y="0"/>
                </a:moveTo>
                <a:lnTo>
                  <a:pt x="263869" y="0"/>
                </a:lnTo>
                <a:lnTo>
                  <a:pt x="263869" y="21600"/>
                </a:lnTo>
                <a:lnTo>
                  <a:pt x="0" y="21600"/>
                </a:lnTo>
                <a:close/>
              </a:path>
              <a:path fill="lightenLess" w="263869" h="21600">
                <a:moveTo>
                  <a:pt x="0" y="0"/>
                </a:moveTo>
                <a:lnTo>
                  <a:pt x="263869" y="0"/>
                </a:lnTo>
                <a:lnTo>
                  <a:pt x="262469" y="1400"/>
                </a:lnTo>
                <a:lnTo>
                  <a:pt x="1400" y="1400"/>
                </a:lnTo>
                <a:close/>
              </a:path>
              <a:path fill="darken" w="263869" h="21600">
                <a:moveTo>
                  <a:pt x="263869" y="0"/>
                </a:moveTo>
                <a:lnTo>
                  <a:pt x="263869" y="21600"/>
                </a:lnTo>
                <a:lnTo>
                  <a:pt x="262469" y="20200"/>
                </a:lnTo>
                <a:lnTo>
                  <a:pt x="262469" y="1400"/>
                </a:lnTo>
                <a:close/>
              </a:path>
              <a:path fill="darkenLess" w="263869" h="21600">
                <a:moveTo>
                  <a:pt x="26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69" y="20200"/>
                </a:lnTo>
                <a:close/>
              </a:path>
              <a:path fill="lighten" w="26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ive Use Of Video Learning Objects in Your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Instructional Video (ITV) into Your Less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295280" y="3195720"/>
            <a:ext cx="617220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e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media needs based on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e, PREVIEW, an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wnloa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less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e objective to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view activity to introduc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 using me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viewing activity for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llow-up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MCj02335950000[1]"/>
          <p:cNvPicPr/>
          <p:nvPr/>
        </p:nvPicPr>
        <p:blipFill>
          <a:blip r:embed="rId1"/>
          <a:stretch/>
        </p:blipFill>
        <p:spPr>
          <a:xfrm>
            <a:off x="7315200" y="0"/>
            <a:ext cx="16192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students know what you expect them to learn from the media.  What are they responsible for?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them to learn by using 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activity to connect to pri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a graphic organiz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to help them record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analyze information the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see in 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923120" y="304920"/>
            <a:ext cx="54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e-viewing Activity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99" name="Picture 4" descr="MCPE02106_0000[1]"/>
          <p:cNvPicPr/>
          <p:nvPr/>
        </p:nvPicPr>
        <p:blipFill>
          <a:blip r:embed="rId1"/>
          <a:stretch/>
        </p:blipFill>
        <p:spPr>
          <a:xfrm>
            <a:off x="5905440" y="4064040"/>
            <a:ext cx="316224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ile viewing the med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turn off all the lights if possi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with your students. (model the desired behav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ower of your media player to use the media intera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“Thumbs up” technique, graphic organizers, etc.  for interactiv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6248520" y="4808520"/>
            <a:ext cx="281916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st-View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0666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-up the media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tudents accountable for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edia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the learning and involve 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modalities through kinesthetic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immers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MCj02167380000[1]"/>
          <p:cNvPicPr/>
          <p:nvPr/>
        </p:nvPicPr>
        <p:blipFill>
          <a:blip r:embed="rId1"/>
          <a:stretch/>
        </p:blipFill>
        <p:spPr>
          <a:xfrm>
            <a:off x="6400800" y="5073480"/>
            <a:ext cx="2133720" cy="16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Some KET Resource Integration Sit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80880" y="4916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missibket.blogspot.com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304920" y="42926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w.missibket.wikispaces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380880" y="360684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cwarnerket.wikidot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9" name="Picture 19" descr="C:\Documents and Settings\lmoore\Local Settings\Temporary Internet Files\Content.IE5\2MW80HCS\MPj04393500000[1].jpg"/>
          <p:cNvPicPr/>
          <p:nvPr/>
        </p:nvPicPr>
        <p:blipFill>
          <a:blip r:embed="rId1"/>
          <a:stretch/>
        </p:blipFill>
        <p:spPr>
          <a:xfrm>
            <a:off x="7043760" y="4572000"/>
            <a:ext cx="2011320" cy="2133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1"/>
          <p:cNvSpPr/>
          <p:nvPr/>
        </p:nvSpPr>
        <p:spPr>
          <a:xfrm>
            <a:off x="228600" y="17524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lmooreketresources.wikispaces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1" name="Action Button: Custom 7">
            <a:hlinkClick r:id="rId2"/>
          </p:cNvPr>
          <p:cNvSpPr/>
          <p:nvPr/>
        </p:nvSpPr>
        <p:spPr>
          <a:xfrm>
            <a:off x="0" y="1752480"/>
            <a:ext cx="8534520" cy="609840"/>
          </a:xfrm>
          <a:custGeom>
            <a:avLst/>
            <a:gdLst>
              <a:gd name="textAreaLeft" fmla="*/ 39240 w 8534520"/>
              <a:gd name="textAreaRight" fmla="*/ 8495280 w 85345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02120" h="21600">
                <a:moveTo>
                  <a:pt x="0" y="0"/>
                </a:moveTo>
                <a:lnTo>
                  <a:pt x="302120" y="0"/>
                </a:lnTo>
                <a:lnTo>
                  <a:pt x="302120" y="21600"/>
                </a:lnTo>
                <a:lnTo>
                  <a:pt x="0" y="21600"/>
                </a:lnTo>
                <a:close/>
              </a:path>
              <a:path fill="lightenLess" w="302120" h="21600">
                <a:moveTo>
                  <a:pt x="0" y="0"/>
                </a:moveTo>
                <a:lnTo>
                  <a:pt x="302120" y="0"/>
                </a:lnTo>
                <a:lnTo>
                  <a:pt x="300720" y="1400"/>
                </a:lnTo>
                <a:lnTo>
                  <a:pt x="1400" y="1400"/>
                </a:lnTo>
                <a:close/>
              </a:path>
              <a:path fill="darken" w="302120" h="21600">
                <a:moveTo>
                  <a:pt x="302120" y="0"/>
                </a:moveTo>
                <a:lnTo>
                  <a:pt x="302120" y="21600"/>
                </a:lnTo>
                <a:lnTo>
                  <a:pt x="300720" y="20200"/>
                </a:lnTo>
                <a:lnTo>
                  <a:pt x="300720" y="1400"/>
                </a:lnTo>
                <a:close/>
              </a:path>
              <a:path fill="darkenLess" w="302120" h="21600">
                <a:moveTo>
                  <a:pt x="3021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720" y="20200"/>
                </a:lnTo>
                <a:close/>
              </a:path>
              <a:path fill="lighten" w="3021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380880" y="914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o access the PowerPoint and other resources used in today’s workshop go to my wiki at the address below: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380880" y="2590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or more information regarding integrating KET resources check out these other KET consultants’ sites: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levision Goes to School: The Impact of Video on Student Learning in Formal Education (Jan 2004). Provided by the Education Department Corporation for Public Broadcasting created by EDC’s Center for Children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gow, F. R. (1997). Don’t turn off the lights! Tip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room use of ITV. Insighters Educ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l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er, J.L. &amp; Singer, D.G. (1983) Implications of child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vision viewing for cogni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ation, and emotion. In J. Bryant and D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erson, (Eds.) (1983)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ildren’s Understanding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levision: Research on atten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prehension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York: Academic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dner, H. (1999.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ligence reframed: Mu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ligences for the 21st century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York: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dner, H. (1993)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ltiple intelligences: The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er for International Education/University of Wisconsin- Created:  May 17, 2001- Updated: 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right © 2005- Robert J. Beck, Ph.D- All rights reserv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covery Education for access to KET EncycloMedia cl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this PowerPoint in whole or in part but please cite KET as the sourc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KET Instructional Online Services Provided to Ky.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T Encyclo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que subject-related web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nic Field Trips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s Toolk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anc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’s Guides &amp; print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Cj02810840000[1]"/>
          <p:cNvPicPr/>
          <p:nvPr/>
        </p:nvPicPr>
        <p:blipFill>
          <a:blip r:embed="rId1"/>
          <a:stretch/>
        </p:blipFill>
        <p:spPr>
          <a:xfrm>
            <a:off x="7162920" y="4038480"/>
            <a:ext cx="1734840" cy="253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Cj02335950000[1]"/>
          <p:cNvPicPr/>
          <p:nvPr/>
        </p:nvPicPr>
        <p:blipFill>
          <a:blip r:embed="rId2"/>
          <a:stretch/>
        </p:blipFill>
        <p:spPr>
          <a:xfrm>
            <a:off x="7086600" y="3962520"/>
            <a:ext cx="1371600" cy="13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coln: The Kentucky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3" descr="Lincoln.jpg"/>
          <p:cNvPicPr/>
          <p:nvPr/>
        </p:nvPicPr>
        <p:blipFill>
          <a:blip r:embed="rId1"/>
          <a:stretch/>
        </p:blipFill>
        <p:spPr>
          <a:xfrm>
            <a:off x="0" y="990720"/>
            <a:ext cx="7391520" cy="50832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0" y="609588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ttp://www.ket.org/lincoln/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1" name="Action Button: Custom 5">
            <a:hlinkClick r:id="rId2"/>
          </p:cNvPr>
          <p:cNvSpPr/>
          <p:nvPr/>
        </p:nvSpPr>
        <p:spPr>
          <a:xfrm>
            <a:off x="76320" y="6095880"/>
            <a:ext cx="6629400" cy="762120"/>
          </a:xfrm>
          <a:custGeom>
            <a:avLst/>
            <a:gdLst>
              <a:gd name="textAreaLeft" fmla="*/ 49320 w 6629400"/>
              <a:gd name="textAreaRight" fmla="*/ 6580080 w 6629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7812" h="21600">
                <a:moveTo>
                  <a:pt x="0" y="0"/>
                </a:moveTo>
                <a:lnTo>
                  <a:pt x="187812" y="0"/>
                </a:lnTo>
                <a:lnTo>
                  <a:pt x="187812" y="21600"/>
                </a:lnTo>
                <a:lnTo>
                  <a:pt x="0" y="21600"/>
                </a:lnTo>
                <a:close/>
              </a:path>
              <a:path fill="lightenLess" w="187812" h="21600">
                <a:moveTo>
                  <a:pt x="0" y="0"/>
                </a:moveTo>
                <a:lnTo>
                  <a:pt x="187812" y="0"/>
                </a:lnTo>
                <a:lnTo>
                  <a:pt x="186412" y="1400"/>
                </a:lnTo>
                <a:lnTo>
                  <a:pt x="1400" y="1400"/>
                </a:lnTo>
                <a:close/>
              </a:path>
              <a:path fill="darken" w="187812" h="21600">
                <a:moveTo>
                  <a:pt x="187812" y="0"/>
                </a:moveTo>
                <a:lnTo>
                  <a:pt x="187812" y="21600"/>
                </a:lnTo>
                <a:lnTo>
                  <a:pt x="186412" y="20200"/>
                </a:lnTo>
                <a:lnTo>
                  <a:pt x="186412" y="1400"/>
                </a:lnTo>
                <a:close/>
              </a:path>
              <a:path fill="darkenLess" w="187812" h="21600">
                <a:moveTo>
                  <a:pt x="18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6412" y="20200"/>
                </a:lnTo>
                <a:close/>
              </a:path>
              <a:path fill="lighten" w="18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391520" y="990720"/>
            <a:ext cx="17524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3" name="Picture 6" descr="lincoln-cartoon.gif"/>
          <p:cNvPicPr/>
          <p:nvPr/>
        </p:nvPicPr>
        <p:blipFill>
          <a:blip r:embed="rId3"/>
          <a:stretch/>
        </p:blipFill>
        <p:spPr>
          <a:xfrm>
            <a:off x="7543800" y="1447920"/>
            <a:ext cx="1565280" cy="2057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8"/>
          <p:cNvSpPr/>
          <p:nvPr/>
        </p:nvSpPr>
        <p:spPr>
          <a:xfrm>
            <a:off x="7543800" y="365760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</a:rPr>
              <a:t>Be sure and play th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</a:rPr>
              <a:t>Abe Across Ky. Game!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cale City: The Road to Proportional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447920"/>
            <a:ext cx="5715000" cy="5333760"/>
          </a:xfrm>
          <a:prstGeom prst="rect">
            <a:avLst/>
          </a:prstGeom>
          <a:ln w="0">
            <a:noFill/>
          </a:ln>
        </p:spPr>
      </p:pic>
      <p:sp>
        <p:nvSpPr>
          <p:cNvPr id="77" name="TextBox 10"/>
          <p:cNvSpPr/>
          <p:nvPr/>
        </p:nvSpPr>
        <p:spPr>
          <a:xfrm>
            <a:off x="0" y="1409760"/>
            <a:ext cx="3352680" cy="54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active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se of Scale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Shadow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ve In Shadow Puppet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yside Up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ral Math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-0-rama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lated Videos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ature Collection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uisville Slugger Museum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ve In Theat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ld Chicken Festival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osaur World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152280" y="68580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aging new website from KET centers on proportional reasoning with emphasis on scale and scaling designed for middle grades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0" y="1371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Professional Development Offering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6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0" y="2057400"/>
            <a:ext cx="1889280" cy="480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"/>
          <p:cNvPicPr/>
          <p:nvPr/>
        </p:nvPicPr>
        <p:blipFill>
          <a:blip r:embed="rId3"/>
          <a:stretch/>
        </p:blipFill>
        <p:spPr>
          <a:xfrm>
            <a:off x="5562720" y="4267080"/>
            <a:ext cx="3276360" cy="1828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2971800" y="6248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18"/>
                </a:solidFill>
                <a:latin typeface="Arial"/>
              </a:rPr>
              <a:t>www.ket.org/education/professional/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4" name="Action Button: Custom 19">
            <a:hlinkClick r:id="rId4"/>
          </p:cNvPr>
          <p:cNvSpPr/>
          <p:nvPr/>
        </p:nvSpPr>
        <p:spPr>
          <a:xfrm>
            <a:off x="2895480" y="6248520"/>
            <a:ext cx="4724640" cy="457200"/>
          </a:xfrm>
          <a:custGeom>
            <a:avLst/>
            <a:gdLst>
              <a:gd name="textAreaLeft" fmla="*/ 29520 w 4724640"/>
              <a:gd name="textAreaRight" fmla="*/ 4695120 w 4724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3053" h="21600">
                <a:moveTo>
                  <a:pt x="0" y="0"/>
                </a:moveTo>
                <a:lnTo>
                  <a:pt x="223053" y="0"/>
                </a:lnTo>
                <a:lnTo>
                  <a:pt x="223053" y="21600"/>
                </a:lnTo>
                <a:lnTo>
                  <a:pt x="0" y="21600"/>
                </a:lnTo>
                <a:close/>
              </a:path>
              <a:path fill="lightenLess" w="223053" h="21600">
                <a:moveTo>
                  <a:pt x="0" y="0"/>
                </a:moveTo>
                <a:lnTo>
                  <a:pt x="223053" y="0"/>
                </a:lnTo>
                <a:lnTo>
                  <a:pt x="221653" y="1400"/>
                </a:lnTo>
                <a:lnTo>
                  <a:pt x="1400" y="1400"/>
                </a:lnTo>
                <a:close/>
              </a:path>
              <a:path fill="darken" w="223053" h="21600">
                <a:moveTo>
                  <a:pt x="223053" y="0"/>
                </a:moveTo>
                <a:lnTo>
                  <a:pt x="223053" y="21600"/>
                </a:lnTo>
                <a:lnTo>
                  <a:pt x="221653" y="20200"/>
                </a:lnTo>
                <a:lnTo>
                  <a:pt x="221653" y="1400"/>
                </a:lnTo>
                <a:close/>
              </a:path>
              <a:path fill="darkenLess" w="223053" h="21600">
                <a:moveTo>
                  <a:pt x="223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53" y="20200"/>
                </a:lnTo>
                <a:close/>
              </a:path>
              <a:path fill="lighten" w="223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5"/>
          <a:stretch/>
        </p:blipFill>
        <p:spPr>
          <a:xfrm>
            <a:off x="2133720" y="4267080"/>
            <a:ext cx="327636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0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33920" y="2209680"/>
            <a:ext cx="333036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9"/>
          <p:cNvSpPr/>
          <p:nvPr/>
        </p:nvSpPr>
        <p:spPr>
          <a:xfrm>
            <a:off x="0" y="1295280"/>
            <a:ext cx="9144000" cy="762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s of the 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mmoth C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uisville Zo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c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d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iation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terinary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86200" y="1980720"/>
            <a:ext cx="5105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Weath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st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 Harrod and Fort Boonesbo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ntist’s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ater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 Coming this fall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Belle of Louisville!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FT'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57200"/>
            <a:ext cx="7696440" cy="17985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76320" y="2286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se are just a few of the field trips produced by KET!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143000" y="60199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www.ket.org/trip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3" name="Action Button: Custom 6">
            <a:hlinkClick r:id="rId3"/>
          </p:cNvPr>
          <p:cNvSpPr/>
          <p:nvPr/>
        </p:nvSpPr>
        <p:spPr>
          <a:xfrm>
            <a:off x="2743200" y="6095880"/>
            <a:ext cx="3733920" cy="533520"/>
          </a:xfrm>
          <a:custGeom>
            <a:avLst/>
            <a:gdLst>
              <a:gd name="textAreaLeft" fmla="*/ 34560 w 3733920"/>
              <a:gd name="textAreaRight" fmla="*/ 3699360 w 3733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51083" h="21600">
                <a:moveTo>
                  <a:pt x="0" y="0"/>
                </a:moveTo>
                <a:lnTo>
                  <a:pt x="151083" y="0"/>
                </a:lnTo>
                <a:lnTo>
                  <a:pt x="151083" y="21600"/>
                </a:lnTo>
                <a:lnTo>
                  <a:pt x="0" y="21600"/>
                </a:lnTo>
                <a:close/>
              </a:path>
              <a:path fill="lightenLess" w="151083" h="21600">
                <a:moveTo>
                  <a:pt x="0" y="0"/>
                </a:moveTo>
                <a:lnTo>
                  <a:pt x="151083" y="0"/>
                </a:lnTo>
                <a:lnTo>
                  <a:pt x="149684" y="1400"/>
                </a:lnTo>
                <a:lnTo>
                  <a:pt x="1400" y="1400"/>
                </a:lnTo>
                <a:close/>
              </a:path>
              <a:path fill="darken" w="151083" h="21600">
                <a:moveTo>
                  <a:pt x="151083" y="0"/>
                </a:moveTo>
                <a:lnTo>
                  <a:pt x="151083" y="21600"/>
                </a:lnTo>
                <a:lnTo>
                  <a:pt x="149684" y="20200"/>
                </a:lnTo>
                <a:lnTo>
                  <a:pt x="149684" y="1400"/>
                </a:lnTo>
                <a:close/>
              </a:path>
              <a:path fill="darkenLess" w="151083" h="21600">
                <a:moveTo>
                  <a:pt x="151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684" y="20200"/>
                </a:lnTo>
                <a:close/>
              </a:path>
              <a:path fill="lighten" w="151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d11"/>
                </a:solidFill>
                <a:latin typeface="Arial"/>
              </a:rPr>
              <a:t>KET Distance Learning</a:t>
            </a:r>
            <a:br>
              <a:rPr sz="4000"/>
            </a:br>
            <a:br>
              <a:rPr sz="100"/>
            </a:br>
            <a:r>
              <a:rPr b="1" lang="en-US" sz="100" spc="-1" strike="noStrike">
                <a:solidFill>
                  <a:srgbClr val="ffdd11"/>
                </a:solidFill>
                <a:latin typeface="Arial"/>
              </a:rPr>
              <a:t>http:/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19320"/>
            <a:ext cx="8610480" cy="5457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1676520" y="6192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www.dl.ket.org/physicslabs/labs/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moore</cp:lastModifiedBy>
  <dcterms:modified xsi:type="dcterms:W3CDTF">2009-06-16T02:41:47Z</dcterms:modified>
  <cp:revision>229</cp:revision>
  <dc:subject/>
  <dc:title>KET Online Resources and Web 2.0 tools</dc:title>
</cp:coreProperties>
</file>